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D703-6605-4B65-A2D0-0BCFDF47D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5E86-55EE-4FA5-8BF0-0FE427854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6FCBF-E032-44B1-AF0D-B2E227C9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6639C-22B0-47D5-9DCD-A14D1283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CEEB0-4E31-43F9-BF3E-0B89FEDA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3F115-76B6-4A21-A770-B40FCD71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2C154-14B5-4985-AF81-2301FC9E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CE8B1-CAD4-415C-9FC7-93E5A5BB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92EA9-7645-4C05-838E-71F503BF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5879F-C241-4D91-ADFD-6C122F21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96428-72F7-43C2-8152-37A6C107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88134-C387-460E-A8DC-5DCB5549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92116-6BC4-45FF-B372-69325124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A4377-F7B2-4BDE-B09E-B699C04A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2B7-008F-4A16-ACAB-74D46455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CCD-F462-4F77-B44E-7982B7E9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7AA-62A0-49A4-BB53-329FEA35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5A7-4354-4E70-BB89-50E49F85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BF6-FE20-4500-9BDC-1B0EC486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F51A-DB94-4D01-9E4F-BBA1EB4A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6E6-AF8A-4666-B134-B3E73429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8B8-DB1B-4342-AA2F-3170B2AD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42F-B745-42B3-A281-0EC2B8F7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542-1460-4218-AA8A-7A819D98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05EC-513E-4238-8A30-F78F2DF7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397-F32C-4F66-AAE5-857A644B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1319-B505-4B13-A4DB-4E80165A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BF3D-AAC9-43E3-A9C6-E6FDC07D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51A2-65E5-4DE2-A577-217081E5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74CB-ABA4-4328-BC4C-0776AE21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B536-A3A5-4601-861C-5F6FF1F2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0853-2EA4-4AC2-848C-05FFE71A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2BF7-C79D-4111-BF58-A75E6DCF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C3C5-18D5-40AF-B27C-C9455950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BEDF-3B20-4F3F-8AA1-36A891F5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E210-2399-48EC-B865-653B1B4E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5722-E0CC-496F-A314-B9AB942E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1512-6BBB-409A-9EB0-B8501106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19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2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66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9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70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1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2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733E-B2D5-41C7-BD4E-EA05810AB3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E0FC-3F1C-4811-979D-91E55D752B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1BFA-3B90-47F3-A8D3-EFE3286F1D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837720" y="1752120"/>
            <a:ext cx="7124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84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Proposal Development: 2014/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4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360160" y="3580920"/>
            <a:ext cx="4575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M. Bekun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. Hoeschle-Zeled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Oval 2"/>
          <p:cNvSpPr/>
          <p:nvPr/>
        </p:nvSpPr>
        <p:spPr>
          <a:xfrm>
            <a:off x="1258920" y="1905120"/>
            <a:ext cx="2779560" cy="25146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Oval 3"/>
          <p:cNvSpPr/>
          <p:nvPr/>
        </p:nvSpPr>
        <p:spPr>
          <a:xfrm>
            <a:off x="457200" y="3200400"/>
            <a:ext cx="3048120" cy="24382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4"/>
          <p:cNvSpPr/>
          <p:nvPr/>
        </p:nvSpPr>
        <p:spPr>
          <a:xfrm>
            <a:off x="2340000" y="3276720"/>
            <a:ext cx="2612880" cy="2286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1600200" y="2724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1. Crop/T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 Box 6"/>
          <p:cNvSpPr/>
          <p:nvPr/>
        </p:nvSpPr>
        <p:spPr>
          <a:xfrm rot="18625800">
            <a:off x="3123720" y="4626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alibri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7"/>
          <p:cNvSpPr/>
          <p:nvPr/>
        </p:nvSpPr>
        <p:spPr>
          <a:xfrm rot="2674800">
            <a:off x="554760" y="472392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f2936"/>
                </a:solidFill>
                <a:latin typeface="Calibri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alibri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5638680" y="2209680"/>
            <a:ext cx="3505320" cy="2871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</a:t>
            </a: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alibri"/>
                <a:ea typeface="ＭＳ Ｐゴシック"/>
              </a:rPr>
              <a:t>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alibri"/>
                <a:ea typeface="ＭＳ Ｐゴシック"/>
              </a:rPr>
              <a:t>   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</a:t>
            </a: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alibri"/>
                <a:ea typeface="ＭＳ Ｐゴシック"/>
              </a:rPr>
              <a:t>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190656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342900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274320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2911320" y="38862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Line 16"/>
          <p:cNvSpPr/>
          <p:nvPr/>
        </p:nvSpPr>
        <p:spPr>
          <a:xfrm>
            <a:off x="259092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0" y="11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Calibri"/>
              </a:rPr>
              <a:t>2012 Planning meeting outputs: Integrated Research as AR’s operational n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Line 22"/>
          <p:cNvSpPr/>
          <p:nvPr/>
        </p:nvSpPr>
        <p:spPr>
          <a:xfrm>
            <a:off x="64771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Line 23"/>
          <p:cNvSpPr/>
          <p:nvPr/>
        </p:nvSpPr>
        <p:spPr>
          <a:xfrm>
            <a:off x="6477120" y="45720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Line 24"/>
          <p:cNvSpPr/>
          <p:nvPr/>
        </p:nvSpPr>
        <p:spPr>
          <a:xfrm>
            <a:off x="65530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Line 25"/>
          <p:cNvSpPr/>
          <p:nvPr/>
        </p:nvSpPr>
        <p:spPr>
          <a:xfrm>
            <a:off x="7315200" y="45720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ight Brace 27"/>
          <p:cNvSpPr/>
          <p:nvPr/>
        </p:nvSpPr>
        <p:spPr>
          <a:xfrm>
            <a:off x="8763120" y="3124080"/>
            <a:ext cx="380880" cy="152424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4240"/>
              <a:gd name="textAreaBottom" fmla="*/ 151452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Oval 28"/>
          <p:cNvSpPr/>
          <p:nvPr/>
        </p:nvSpPr>
        <p:spPr>
          <a:xfrm>
            <a:off x="0" y="1676520"/>
            <a:ext cx="5410080" cy="4647960"/>
          </a:xfrm>
          <a:prstGeom prst="ellipse">
            <a:avLst/>
          </a:prstGeom>
          <a:noFill/>
          <a:ln w="7632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Oval 29" descr=""/>
          <p:cNvPicPr/>
          <p:nvPr/>
        </p:nvPicPr>
        <p:blipFill>
          <a:blip r:embed="rId1"/>
          <a:stretch/>
        </p:blipFill>
        <p:spPr>
          <a:xfrm>
            <a:off x="-549360" y="2992320"/>
            <a:ext cx="6589800" cy="1940040"/>
          </a:xfrm>
          <a:prstGeom prst="rect">
            <a:avLst/>
          </a:prstGeom>
          <a:ln w="0">
            <a:noFill/>
          </a:ln>
        </p:spPr>
      </p:pic>
      <p:sp>
        <p:nvSpPr>
          <p:cNvPr id="581" name="Line 16"/>
          <p:cNvSpPr/>
          <p:nvPr/>
        </p:nvSpPr>
        <p:spPr>
          <a:xfrm>
            <a:off x="320040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Line 14"/>
          <p:cNvSpPr/>
          <p:nvPr/>
        </p:nvSpPr>
        <p:spPr>
          <a:xfrm>
            <a:off x="2895480" y="365760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25"/>
          <p:cNvSpPr/>
          <p:nvPr/>
        </p:nvSpPr>
        <p:spPr>
          <a:xfrm>
            <a:off x="6019920" y="5533920"/>
            <a:ext cx="22860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4D Plat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4" name="Curved Connector 33"/>
          <p:cNvCxnSpPr/>
          <p:nvPr/>
        </p:nvCxnSpPr>
        <p:spPr>
          <a:xfrm flipH="1" rot="16200000">
            <a:off x="4837680" y="4305240"/>
            <a:ext cx="1524960" cy="99108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85" name="Line 25"/>
          <p:cNvSpPr/>
          <p:nvPr/>
        </p:nvSpPr>
        <p:spPr>
          <a:xfrm>
            <a:off x="6400800" y="4191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692360" y="2349360"/>
          <a:ext cx="6842160" cy="3670560"/>
        </p:xfrm>
        <a:graphic>
          <a:graphicData uri="http://schemas.openxmlformats.org/drawingml/2006/table">
            <a:tbl>
              <a:tblPr/>
              <a:tblGrid>
                <a:gridCol w="664920"/>
                <a:gridCol w="601920"/>
                <a:gridCol w="1393560"/>
                <a:gridCol w="196920"/>
                <a:gridCol w="1324080"/>
                <a:gridCol w="1330200"/>
                <a:gridCol w="1330560"/>
              </a:tblGrid>
              <a:tr h="648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ross-cutting studies (impact, markets, nutrition, gender, policy…) and actions (scaling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16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+L+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+L; C+S; L+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79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, L,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Baseline, FSA, Discipline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Low hanging fruits, Team buil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2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3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5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AutoShape 1"/>
          <p:cNvSpPr/>
          <p:nvPr/>
        </p:nvSpPr>
        <p:spPr>
          <a:xfrm flipH="1">
            <a:off x="611280" y="2637000"/>
            <a:ext cx="1008000" cy="2736720"/>
          </a:xfrm>
          <a:prstGeom prst="upArrow">
            <a:avLst>
              <a:gd name="adj1" fmla="val 50000"/>
              <a:gd name="adj2" fmla="val 755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Toward full 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"/>
          <p:cNvSpPr/>
          <p:nvPr/>
        </p:nvSpPr>
        <p:spPr>
          <a:xfrm>
            <a:off x="468360" y="1557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07f09"/>
                </a:solidFill>
                <a:latin typeface="Calibri"/>
              </a:rPr>
              <a:t>Conceptual progress towards sustainable int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1"/>
          <p:cNvSpPr/>
          <p:nvPr/>
        </p:nvSpPr>
        <p:spPr>
          <a:xfrm>
            <a:off x="228600" y="1371600"/>
            <a:ext cx="8153280" cy="50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categories – Work packages (Tanzan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op and crop variety divers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ociated crops – sorghum, millet, pigeon p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ge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st and disease – Maize lethal necrosis dis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il fertility – fertilizers, manures, leguminous crops, multi-cr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llage – Tied-ridging; ripp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vestock – feed, fodders, grazing, manur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t-harvest – handling, storage and aflatox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ing – mechanization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s – cost benefit analysis, partial budget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rmer adoption – voucher program , plat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eam proposal developmen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ification – Where you are along the impact traj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ments to mature the technologies (higher level integration) …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incip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data generated expressed in context (cross cutting disciplin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d to the log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dget details (activity/institutional alloc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" descr=""/>
          <p:cNvPicPr/>
          <p:nvPr/>
        </p:nvPicPr>
        <p:blipFill>
          <a:blip r:embed="rId1"/>
          <a:srcRect l="10763" t="12500" r="11347" b="0"/>
          <a:stretch/>
        </p:blipFill>
        <p:spPr>
          <a:xfrm>
            <a:off x="71280" y="1130400"/>
            <a:ext cx="9068040" cy="5727600"/>
          </a:xfrm>
          <a:prstGeom prst="rect">
            <a:avLst/>
          </a:prstGeom>
          <a:ln w="0">
            <a:noFill/>
          </a:ln>
        </p:spPr>
      </p:pic>
      <p:sp>
        <p:nvSpPr>
          <p:cNvPr id="594" name="Left Brace 2"/>
          <p:cNvSpPr/>
          <p:nvPr/>
        </p:nvSpPr>
        <p:spPr>
          <a:xfrm rot="3384000">
            <a:off x="2832840" y="3350520"/>
            <a:ext cx="712800" cy="2362320"/>
          </a:xfrm>
          <a:custGeom>
            <a:avLst/>
            <a:gdLst>
              <a:gd name="textAreaLeft" fmla="*/ 455400 w 712800"/>
              <a:gd name="textAreaRight" fmla="*/ 713160 w 712800"/>
              <a:gd name="textAreaTop" fmla="*/ 18360 h 2362320"/>
              <a:gd name="textAreaBottom" fmla="*/ 23439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2"/>
                  <a:pt x="10800" y="543"/>
                </a:cubicBezTo>
                <a:lnTo>
                  <a:pt x="10800" y="10466"/>
                </a:lnTo>
                <a:cubicBezTo>
                  <a:pt x="10800" y="10738"/>
                  <a:pt x="5400" y="11009"/>
                  <a:pt x="0" y="11009"/>
                </a:cubicBezTo>
                <a:cubicBezTo>
                  <a:pt x="5400" y="11009"/>
                  <a:pt x="10800" y="11281"/>
                  <a:pt x="10800" y="11552"/>
                </a:cubicBezTo>
                <a:lnTo>
                  <a:pt x="10800" y="21057"/>
                </a:lnTo>
                <a:cubicBezTo>
                  <a:pt x="10800" y="2132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3"/>
          <p:cNvSpPr/>
          <p:nvPr/>
        </p:nvSpPr>
        <p:spPr>
          <a:xfrm>
            <a:off x="1676520" y="1749600"/>
            <a:ext cx="440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rica RISING Years 3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lementation with higher integ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earch refinement &amp; expansion (e.g., IPM, socio-economic studi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tfo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nsfer of research outp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ientific support to FtF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6" name="Straight Arrow Connector 8"/>
          <p:cNvCxnSpPr>
            <a:endCxn id="594" idx="1"/>
          </p:cNvCxnSpPr>
          <p:nvPr/>
        </p:nvCxnSpPr>
        <p:spPr>
          <a:xfrm flipH="1">
            <a:off x="2972880" y="3735360"/>
            <a:ext cx="75600" cy="511920"/>
          </a:xfrm>
          <a:prstGeom prst="straightConnector1">
            <a:avLst/>
          </a:prstGeom>
          <a:ln w="381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07:40:18Z</dcterms:created>
  <dc:creator>Bekunda</dc:creator>
  <dc:description/>
  <dc:language>en-US</dc:language>
  <cp:lastModifiedBy>Bekunda</cp:lastModifiedBy>
  <cp:lastPrinted>2011-10-06T11:45:23Z</cp:lastPrinted>
  <dcterms:modified xsi:type="dcterms:W3CDTF">2014-09-10T02:41:26Z</dcterms:modified>
  <cp:revision>5</cp:revision>
  <dc:subject/>
  <dc:title>Slide 1</dc:title>
</cp:coreProperties>
</file>